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6F2B-9B00-4F25-AD5E-FBA78AFDF5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2B5-52A9-4CDF-99E0-94E28E57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1E9-E87C-4026-A40E-658ECA0A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2CD-C216-4844-8554-F005ACFC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E8C-3C56-4CEF-AAE7-E8FBDA0A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384-F1C6-4DC8-863B-DBABBA48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354-722D-4D6D-BF77-FDBDECC1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64C-A36C-4C6B-BC15-BE294096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ECC-CAEA-429D-85AD-F983F6AA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1B8-5D2F-420F-A61B-777A4C17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46E-117F-450E-8B1A-76C68DE7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0FA-24B8-44D8-A4CD-94072F46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EDE-A1B8-418B-8E94-4A909E37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5BDC-DD79-439A-B7E4-FE7E77CFB9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what is meant by the ter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944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argets"/>
          <p:cNvPicPr/>
          <p:nvPr/>
        </p:nvPicPr>
        <p:blipFill>
          <a:blip r:embed="rId1"/>
          <a:stretch/>
        </p:blipFill>
        <p:spPr>
          <a:xfrm>
            <a:off x="380880" y="1792440"/>
            <a:ext cx="8534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hormone_2"/>
          <p:cNvPicPr/>
          <p:nvPr/>
        </p:nvPicPr>
        <p:blipFill>
          <a:blip r:embed="rId1"/>
          <a:stretch/>
        </p:blipFill>
        <p:spPr>
          <a:xfrm>
            <a:off x="152280" y="1050840"/>
            <a:ext cx="88394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arget cel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 target cell responds to a hormone because it bears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recepto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nsulin"/>
          <p:cNvPicPr/>
          <p:nvPr/>
        </p:nvPicPr>
        <p:blipFill>
          <a:blip r:embed="rId1"/>
          <a:stretch/>
        </p:blipFill>
        <p:spPr>
          <a:xfrm>
            <a:off x="990720" y="282600"/>
            <a:ext cx="71625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9"/>
          <p:cNvGrpSpPr/>
          <p:nvPr/>
        </p:nvGrpSpPr>
        <p:grpSpPr>
          <a:xfrm>
            <a:off x="3108240" y="1023840"/>
            <a:ext cx="5000760" cy="268200"/>
            <a:chOff x="3108240" y="1023840"/>
            <a:chExt cx="5000760" cy="268200"/>
          </a:xfrm>
        </p:grpSpPr>
        <p:sp>
          <p:nvSpPr>
            <p:cNvPr id="51" name="Rectangle 6"/>
            <p:cNvSpPr/>
            <p:nvPr/>
          </p:nvSpPr>
          <p:spPr>
            <a:xfrm>
              <a:off x="3108240" y="1023840"/>
              <a:ext cx="5000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3108240" y="1023840"/>
              <a:ext cx="500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8" descr="illu_endocrine_system"/>
          <p:cNvPicPr/>
          <p:nvPr/>
        </p:nvPicPr>
        <p:blipFill>
          <a:blip r:embed="rId1"/>
          <a:stretch/>
        </p:blipFill>
        <p:spPr>
          <a:xfrm>
            <a:off x="2303640" y="152280"/>
            <a:ext cx="4876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figure19c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49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0492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externally through a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hormones into the blood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pancreas has an exocrine portion that secretes digestive enzymes that are carried through a duct to the duodenum. The endocrine portion consists of the pancreatic islets, which secrete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glucagon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insuli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ugar"/>
          <p:cNvPicPr/>
          <p:nvPr/>
        </p:nvPicPr>
        <p:blipFill>
          <a:blip r:embed="rId1"/>
          <a:stretch/>
        </p:blipFill>
        <p:spPr>
          <a:xfrm>
            <a:off x="2392200" y="152280"/>
            <a:ext cx="4361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4304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743040" y="1085760"/>
            <a:ext cx="7659720" cy="4541760"/>
            <a:chOff x="743040" y="1085760"/>
            <a:chExt cx="7659720" cy="4541760"/>
          </a:xfrm>
        </p:grpSpPr>
        <p:sp>
          <p:nvSpPr>
            <p:cNvPr id="66" name="Rectangle 3"/>
            <p:cNvSpPr/>
            <p:nvPr/>
          </p:nvSpPr>
          <p:spPr>
            <a:xfrm>
              <a:off x="743040" y="1085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743040" y="1085760"/>
              <a:ext cx="765972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  </a:t>
              </a:r>
              <a:r>
                <a:rPr b="0" lang="en-GB" sz="292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</a:t>
              </a: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5" descr="Blood glucose regulation"/>
          <p:cNvPicPr/>
          <p:nvPr/>
        </p:nvPicPr>
        <p:blipFill>
          <a:blip r:embed="rId1"/>
          <a:stretch/>
        </p:blipFill>
        <p:spPr>
          <a:xfrm>
            <a:off x="228600" y="351000"/>
            <a:ext cx="87631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Homeos4"/>
          <p:cNvPicPr/>
          <p:nvPr/>
        </p:nvPicPr>
        <p:blipFill>
          <a:blip r:embed="rId1"/>
          <a:stretch/>
        </p:blipFill>
        <p:spPr>
          <a:xfrm>
            <a:off x="152280" y="1355760"/>
            <a:ext cx="88394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1:53:37Z</dcterms:created>
  <dc:creator>Sarah</dc:creator>
  <dc:description/>
  <dc:language>en-US</dc:language>
  <cp:lastModifiedBy>RomaK</cp:lastModifiedBy>
  <dcterms:modified xsi:type="dcterms:W3CDTF">2015-09-04T10:46:37Z</dcterms:modified>
  <cp:revision>17</cp:revision>
  <dc:subject/>
  <dc:title>Objectives</dc:title>
</cp:coreProperties>
</file>